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media/image6.jpeg" ContentType="image/jpeg"/>
  <Override PartName="/ppt/media/image5.wmf" ContentType="image/x-wmf"/>
  <Override PartName="/ppt/media/image12.jpeg" ContentType="image/jpeg"/>
  <Override PartName="/ppt/media/image20.jpeg" ContentType="image/jpeg"/>
  <Override PartName="/ppt/media/image19.jpeg" ContentType="image/jpeg"/>
  <Override PartName="/ppt/media/image4.wmf" ContentType="image/x-wmf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15.jpeg" ContentType="image/jpeg"/>
  <Override PartName="/ppt/media/image3.wmf" ContentType="image/x-wmf"/>
  <Override PartName="/ppt/media/image13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1442-CB0A-4C78-8D9E-B29446468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1170-FE08-451D-8A88-BEC33B627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DF8B-A1E6-4432-ADED-C3D6953A2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0288-2B60-41D0-9420-D2B9E7AE4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872E-E419-4360-B2BB-5E0B9D084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C1E2-14F2-46D2-AAB1-E909A379A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4901-78A6-47F3-BDDA-5846C38F8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8077-C7FF-4736-A47A-737CB2F50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CBC8-ADE7-446B-898D-20F9509B2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1DCA-11E3-48A9-A2BC-64500B3F4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26A7-3E0E-435D-A96B-7E03A061C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1029-658C-4FE9-8344-99B9415D6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9FD8B-D12D-4B1C-A84A-AA30F2F3746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ftr" idx="4"/>
          </p:nvPr>
        </p:nvSpPr>
        <p:spPr>
          <a:xfrm>
            <a:off x="3132000" y="6095880"/>
            <a:ext cx="3600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© 2008 Bowland Charitable Tr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5280" y="1294920"/>
            <a:ext cx="7010640" cy="213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21304"/>
                </a:solidFill>
                <a:latin typeface="Comic Sans MS"/>
              </a:rPr>
              <a:t>Fun with the sun</a:t>
            </a:r>
            <a:br>
              <a:rPr sz="4400"/>
            </a:br>
            <a:r>
              <a:rPr b="0" lang="en-GB" sz="4400" spc="-1" strike="noStrike">
                <a:solidFill>
                  <a:srgbClr val="221304"/>
                </a:solidFill>
                <a:latin typeface="Comic Sans MS"/>
              </a:rPr>
              <a:t>- a bit of theory and an origami sundial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21304"/>
                </a:solidFill>
                <a:latin typeface="Times New Roman"/>
              </a:rPr>
              <a:t>An origami sundial - 6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133640" y="2733840"/>
            <a:ext cx="3600360" cy="21524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5019840" y="2773440"/>
            <a:ext cx="3600360" cy="20732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403280" y="6021360"/>
            <a:ext cx="69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Click on the picture to see a video clip of the fold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21304"/>
                </a:solidFill>
                <a:latin typeface="Times New Roman"/>
              </a:rPr>
              <a:t>An origami sundial - 7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133640" y="2873520"/>
            <a:ext cx="3600360" cy="18716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5019840" y="2808360"/>
            <a:ext cx="3600360" cy="20016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403280" y="6021360"/>
            <a:ext cx="69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Click on the picture to see a video clip of the fold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5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0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21304"/>
                </a:solidFill>
                <a:latin typeface="Times New Roman"/>
              </a:rPr>
              <a:t>An origami sundial - 8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32000" y="2060640"/>
            <a:ext cx="6985080" cy="23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You now need to make a support to hold your sundial at the correct angle for your latitu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Make a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Comic Sans MS"/>
              </a:rPr>
              <a:t>right angled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triangular prism where one of the angles is equal to your latitu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If your angle of latitude is 51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° then the angles of the triangle will be 51°, 90° and 39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68360" y="4869000"/>
            <a:ext cx="1656000" cy="1224000"/>
          </a:xfrm>
          <a:prstGeom prst="rtTriangle">
            <a:avLst/>
          </a:prstGeom>
          <a:solidFill>
            <a:srgbClr val="a1bd6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2268360" y="4508280"/>
            <a:ext cx="1224000" cy="3603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3924360" y="5733720"/>
            <a:ext cx="1224000" cy="3603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 flipV="1">
            <a:off x="3492360" y="4508640"/>
            <a:ext cx="1656000" cy="12254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2340000" y="4292640"/>
            <a:ext cx="2448000" cy="720720"/>
          </a:xfrm>
          <a:prstGeom prst="line">
            <a:avLst/>
          </a:prstGeom>
          <a:ln cap="sq" w="2844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2340000" y="4221000"/>
            <a:ext cx="3024000" cy="1800360"/>
          </a:xfrm>
          <a:prstGeom prst="line">
            <a:avLst/>
          </a:prstGeom>
          <a:ln cap="sq" w="2844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708000" y="4292640"/>
            <a:ext cx="2592360" cy="1728720"/>
          </a:xfrm>
          <a:prstGeom prst="line">
            <a:avLst/>
          </a:prstGeom>
          <a:ln cap="sq" w="2844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21304"/>
                </a:solidFill>
                <a:latin typeface="Times New Roman"/>
              </a:rPr>
              <a:t>An origami sundial - 9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484360" y="1844640"/>
            <a:ext cx="4807080" cy="45212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403280" y="6308640"/>
            <a:ext cx="69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Click on the picture to see a video clip of the supp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21304"/>
                </a:solidFill>
                <a:latin typeface="Times New Roman"/>
              </a:rPr>
              <a:t>A bit of theory - 1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990720" y="1219320"/>
            <a:ext cx="7767360" cy="52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21304"/>
                </a:solidFill>
                <a:latin typeface="Times New Roman"/>
              </a:rPr>
              <a:t>A bit of theory - 2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295280" y="1447920"/>
            <a:ext cx="6885000" cy="46861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403280" y="6093000"/>
            <a:ext cx="712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 will fold a sundial like this from a sheet of pap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21304"/>
                </a:solidFill>
                <a:latin typeface="Times New Roman"/>
              </a:rPr>
              <a:t>A bit of theory - 3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843280" y="1341360"/>
            <a:ext cx="3809880" cy="52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21304"/>
                </a:solidFill>
                <a:latin typeface="Times New Roman"/>
              </a:rPr>
              <a:t>An origami sundial - 1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139760" y="1919160"/>
            <a:ext cx="3621240" cy="3816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5019840" y="1992240"/>
            <a:ext cx="3600360" cy="363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403280" y="6021360"/>
            <a:ext cx="69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Click on the picture to see a video clip of the fold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21304"/>
                </a:solidFill>
                <a:latin typeface="Times New Roman"/>
              </a:rPr>
              <a:t>An origami sundial - 2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133640" y="2065320"/>
            <a:ext cx="3600360" cy="34894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5019840" y="2066760"/>
            <a:ext cx="3600360" cy="34848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403280" y="6021360"/>
            <a:ext cx="69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Click on the picture to see a video clip of the fold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21304"/>
                </a:solidFill>
                <a:latin typeface="Times New Roman"/>
              </a:rPr>
              <a:t>An origami sundial - 3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133640" y="1994040"/>
            <a:ext cx="3600360" cy="36306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5019840" y="2476440"/>
            <a:ext cx="3600360" cy="26672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403280" y="6021360"/>
            <a:ext cx="69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Click on the picture to see a video clip of the fold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8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8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21304"/>
                </a:solidFill>
                <a:latin typeface="Times New Roman"/>
              </a:rPr>
              <a:t>An origami sundial - 4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173240" y="1752480"/>
            <a:ext cx="3521160" cy="41148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019840" y="2046240"/>
            <a:ext cx="3600360" cy="3525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403280" y="6021360"/>
            <a:ext cx="69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Click on the picture to see a video clip of the fold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21304"/>
                </a:solidFill>
                <a:latin typeface="Times New Roman"/>
              </a:rPr>
              <a:t>An origami sundial - 5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133640" y="2805120"/>
            <a:ext cx="3600360" cy="20080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5019840" y="2790720"/>
            <a:ext cx="3600360" cy="20383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332000" y="5445000"/>
            <a:ext cx="698508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Click on the picture to see a video clip of the fold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It doesn’t matter which side you fold over –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you can have the plain or coloured side u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5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0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5T19:51:43Z</dcterms:created>
  <dc:creator>Peter Ransom</dc:creator>
  <dc:description/>
  <dc:language>en-US</dc:language>
  <cp:lastModifiedBy>Ransom</cp:lastModifiedBy>
  <dcterms:modified xsi:type="dcterms:W3CDTF">2008-05-13T21:30:03Z</dcterms:modified>
  <cp:revision>24</cp:revision>
  <dc:subject/>
  <dc:title>Fun with the sun</dc:title>
</cp:coreProperties>
</file>